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gif" ContentType="image/gif"/>
  <Override PartName="/ppt/media/image21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type.wav" ContentType="audio/x-wav"/>
  <Override PartName="/ppt/media/chimes.wav" ContentType="audio/x-wav"/>
  <Override PartName="/ppt/media/drumroll.wav" ContentType="audio/x-wav"/>
  <Override PartName="/ppt/media/image9.png" ContentType="image/png"/>
  <Override PartName="/ppt/media/cashreg.wav" ContentType="audio/x-wav"/>
  <Override PartName="/ppt/media/camera.wav" ContentType="audio/x-wav"/>
  <Override PartName="/ppt/media/image25.jpeg" ContentType="image/jpeg"/>
  <Override PartName="/ppt/media/glass.wav" ContentType="audio/x-wav"/>
  <Override PartName="/ppt/media/image10.png" ContentType="image/png"/>
  <Override PartName="/ppt/media/applause.wav" ContentType="audio/x-wav"/>
  <Override PartName="/ppt/media/whoosh.wav" ContentType="audio/x-wav"/>
  <Override PartName="/ppt/media/image27.gif" ContentType="image/gif"/>
  <Override PartName="/ppt/media/image1.gif" ContentType="image/gif"/>
  <Override PartName="/ppt/media/image16.jpeg" ContentType="image/jpeg"/>
  <Override PartName="/ppt/media/laser.wav" ContentType="audio/x-wav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1.gif" ContentType="image/gif"/>
  <Override PartName="/ppt/media/image24.jpeg" ContentType="image/jpeg"/>
  <Override PartName="/ppt/media/projcto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002-E960-4BC3-8480-8FE5B072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6F8-EE98-442E-8175-DC98CA4D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27E-CD8A-492D-963D-937C559E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551-A40A-4228-B37F-061831AC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B10-298A-4DDE-8EEE-4A49A818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1A3-82FD-44C7-9F2D-915542E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788-2730-4548-8EF7-AEA89EC9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118-3EA5-4C00-9CDB-53E3177C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FE4-DC47-47A2-B610-14F98B49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0AF-A904-4AC5-915D-62CBEC4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52B-A4FB-475D-8397-762F247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6CF-558B-45DB-BBB9-F19A31A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2ED2-4D6D-4484-A14B-1C4A4B27E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5029200"/>
            <a:ext cx="561672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514600" cy="3504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1523880"/>
            <a:ext cx="2362320" cy="350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71640" y="1989000"/>
            <a:ext cx="7704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欢迎您</a:t>
            </a: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,</a:t>
            </a:r>
            <a:r>
              <a:rPr b="0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家长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5373720"/>
            <a:ext cx="576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47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05320" y="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语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01080" y="914400"/>
            <a:ext cx="5920200" cy="3934440"/>
            <a:chOff x="1801080" y="914400"/>
            <a:chExt cx="5920200" cy="3934440"/>
          </a:xfrm>
        </p:grpSpPr>
        <p:sp>
          <p:nvSpPr>
            <p:cNvPr id="93" name=""/>
            <p:cNvSpPr/>
            <p:nvPr/>
          </p:nvSpPr>
          <p:spPr>
            <a:xfrm>
              <a:off x="1801080" y="914400"/>
              <a:ext cx="17712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林瑞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余林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３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陈茂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４蔡昌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５余青青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6.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余文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43360" y="990720"/>
              <a:ext cx="2977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７周棉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8.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余晓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９金建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10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．威特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\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书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彩萍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\</a:t>
              </a:r>
              <a:r>
                <a:rPr b="1" lang="zh-CN" sz="36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蒙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36600" y="304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英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05960" y="1371600"/>
            <a:ext cx="5157720" cy="3202200"/>
            <a:chOff x="1605960" y="1371600"/>
            <a:chExt cx="5157720" cy="3202200"/>
          </a:xfrm>
        </p:grpSpPr>
        <p:sp>
          <p:nvSpPr>
            <p:cNvPr id="98" name=""/>
            <p:cNvSpPr/>
            <p:nvPr/>
          </p:nvSpPr>
          <p:spPr>
            <a:xfrm>
              <a:off x="1605960" y="1371600"/>
              <a:ext cx="20095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１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林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２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陈茂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.  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余芳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４   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青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５   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蔡昌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0480" y="1371600"/>
              <a:ext cx="175320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６．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叶晨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７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仿宋_GB2312"/>
                </a:rPr>
                <a:t>余晓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8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.  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周棉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9.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林剪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10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文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685440" cy="687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cc"/>
                </a:solidFill>
                <a:latin typeface="汉仪圆叠体简"/>
              </a:rPr>
              <a:t>给家长的几点建议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cc"/>
              </a:solidFill>
              <a:latin typeface="汉仪圆叠体简"/>
              <a:ea typeface="汉仪圆叠体简"/>
            </a:endParaRPr>
          </a:p>
        </p:txBody>
      </p:sp>
    </p:spTree>
  </p:cSld>
  <p:transition spd="med">
    <p:pull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67640" y="5673600"/>
            <a:ext cx="1476360" cy="118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2240" y="80820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家长们的几点希望与要求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440" y="1700280"/>
            <a:ext cx="83516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要教育孩子怎样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做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关心孩子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思想动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使孩子有正确的思想导向、明确的奋斗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２、做好子女在家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学习督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工作，保证在家 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学习时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努力创建 一个学习型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３、多培养孩子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进取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责任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吃苦耐劳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４、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良好习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养成非常重要，包括学习习惯、思维习惯、生活习惯、饮食习惯、卫生习惯等，这些都有助于孩子的成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５、要尽量控制孩子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零用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上学、回家的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教育孩子少与社会上或其他学校的人搭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给子女营造一个良好的学习氛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0040" y="3505320"/>
            <a:ext cx="470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ff33"/>
                </a:solidFill>
                <a:latin typeface="Tahoma"/>
                <a:ea typeface="华文新魏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新魏"/>
              </a:rPr>
              <a:t>平时与班主任、任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新魏"/>
              </a:rPr>
              <a:t>老师多多联系，沟通，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新魏"/>
              </a:rPr>
              <a:t>同教育好您的孩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563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294600"/>
            <a:ext cx="9144000" cy="56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066680" y="2895480"/>
            <a:ext cx="7010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赠给家长！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0040" y="789480"/>
            <a:ext cx="581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批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谴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鼓励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自信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忍耐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耐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表扬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感激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接受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爱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分享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慷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真诚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头脑平静地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0720" y="-87840"/>
            <a:ext cx="1003320" cy="289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华文彩云"/>
              </a:rPr>
              <a:t>赠家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1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086600" cy="105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5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725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125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家长提意见和建议。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进入高中，考上好大学是学生、家长、老师的共同心愿。而且这也必须是三方共同努力才能达到的目标，因此也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请家长同志对学校和老师的工作多加支持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。下面就请家长们对班级管理及其他方面提出合理化意见和建议。 </a:t>
            </a:r>
            <a:br>
              <a:rPr sz="3600"/>
            </a:b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 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0520"/>
            <a:chOff x="0" y="0"/>
            <a:chExt cx="9144000" cy="68605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9440" y="5943600"/>
              <a:ext cx="429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ff"/>
                  </a:solidFill>
                  <a:latin typeface="Times New Roman"/>
                </a:rPr>
                <a:t>感谢各位家长的光临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609480"/>
            <a:ext cx="7010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76520" y="4876920"/>
            <a:ext cx="61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一起帮助孩子更好学习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使之顺利进入理想高中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5748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</a:rPr>
              <a:t>共同的心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125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尊敬的各位家长</a:t>
            </a:r>
            <a:r>
              <a:rPr b="1" i="1" lang="zh-CN" sz="40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133720"/>
            <a:ext cx="756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今天首先感谢您们在百忙之中抽空来参加家长会，协助并参与我们的教育教学工作。我非常高兴。关心、帮助、督促贵子女学习是我们共同的心愿！使您的孩子得到全面发展和提高是我们共同的目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97560" y="333360"/>
            <a:ext cx="2009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倾听孩子们的心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9320" y="762120"/>
            <a:ext cx="8534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放心了！ ——张辉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放心吧！——洪海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会努力考上高中！ ——丘建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好学习，天天向上！ ——罗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会努力的，争取考好！——章跃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定要考上洪家中学！——王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希望您不要太过严格！——洪嘉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85800"/>
            <a:ext cx="85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多了解子女学习情况，不要只关心学习成绩，而不关注学习过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411480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     </a:t>
            </a: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关心子女的内心世界，尊重他们的想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660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0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040" y="1066680"/>
            <a:ext cx="6171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妈妈，我会努力的，相信我！  ——黄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爸爸，我会认真学习的，努力做到最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                                                 ——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王智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我尽全力吧，但高中没希望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                                                ——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朱一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实现理想，成就理想。 ——杨彬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会努力考上高中的。    ——盛子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65360" y="762120"/>
            <a:ext cx="6078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会尽我的全力做得更好，相信我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苏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的一般般，如果你不生气的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天中午的饭我包了！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军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要通过自己的努力，争取考上洪家中学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姚虹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最好，只要更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进步，才能更好。——茅晓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03840" y="914400"/>
            <a:ext cx="514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爸爸，妈妈，你们辛苦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希望你们永远支持我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                              ——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周微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我一定要读好书，考上高中，好好读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天天向上，虽然我数学成绩不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                                      ——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林建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这个学期我会努力的，不会止步不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只往上冒，不往下沉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                                       ——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黄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31040" y="838080"/>
            <a:ext cx="5241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我会在余下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多天里，努力，努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再努力，从实际行动开始证明，希望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辜负你们的期望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                             ——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陈亚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转眼间，离中考的日子也不远了。我一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会在这段时间里，努力学习，考出好成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争取考上洪家高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                              ——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陈星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在这一阶段里，我会吸取教训，学习关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在于自觉，所以我决定每天看看名著导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把握时间，珍惜现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                    ——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郑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66824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3760" y="533520"/>
            <a:ext cx="514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苦读九年是为了什么？还不是为了考上高中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所以，我会努力的！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     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洪思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希望在这短暂的初三学习过程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能提高成绩，不辜负家长的希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         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徐周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爸妈！放心！我一定会努力的，不会辜负你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对我的期望，谢谢你们对我的培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     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潘丹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爸爸，我这次成绩虽然不满意，但是我会努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，以自己的目标为准则，努力复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把这次中考考好！ ——吴海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20680" y="685800"/>
            <a:ext cx="4962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短暂的初三已经过去大半了，我也有我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收获，尽管对你们来说我的收获根本没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剩下的时间里，忙碌的 学习或许会对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学业有所帮助，但不管怎么样，我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认真学的！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王婉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昨天的我只顾着玩，不爱学习，让你们伤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相信明天的我不会再是昨天那个贪玩的小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养育之恩，无以回报，在此说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爸妈，辛苦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戴宏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42600" y="838080"/>
            <a:ext cx="6171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尽管我的成绩不太好，但是请相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今后的学习上，我会努力，考取好成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林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学期结束前我不会再去玩电脑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现在会好好的认真的学习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王春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也许椒江一中是一种奢望，我有信心征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洪家中学，不用为我担心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金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爸爸，妈妈，我会努力去学习，争取中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成绩能够好一些，请你们相信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许青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88620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628640"/>
            <a:ext cx="74898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英语：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宋冬梅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35661746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语文：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李春菲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3587558086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社会：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方伟阳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38065382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科学</a:t>
            </a:r>
            <a:r>
              <a:rPr b="1" lang="zh-CN" sz="44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胜弟</a:t>
            </a:r>
            <a:r>
              <a:rPr b="1" lang="zh-CN" sz="1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主任</a:t>
            </a:r>
            <a:r>
              <a:rPr b="1" lang="zh-CN" sz="1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868821537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学：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林帮华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55125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09040" y="8380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任科教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2680" y="685800"/>
            <a:ext cx="5613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妈妈，你为我的付出我感到很幸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对我的希望，我真心去付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冯玲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努力，再努力！加油，再加油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考中，一定会考出好成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杨磊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知道我的存在，你们付出了许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会做好我应该做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何亚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爸，我知道你是想让我争取考上高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也不想让你失望，但我还是尽量去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67680" y="990720"/>
            <a:ext cx="552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爸妈，辛苦了！在此我有一些话想对您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虽然我的成绩在班级里是那么的不起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但是我会努力的。我想起了一句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展望明天，应该是信心百倍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周东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努力学习，争取在中考中取得不让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后悔的成绩，“游子身上衣，慈母手中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会牢记父母对我的关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陶贝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59160" y="914400"/>
            <a:ext cx="598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我一定会加油的！请相信我，在以后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考试中，我会用自己的行动来证明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努力的成果。沉舟侧畔千帆过，病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前头万木春。在困难中，一定会熬过去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—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陈依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爸爸妈妈，现在已进入初三下学期，马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就要面临人生第一大转折点——中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我自己知道，我的任务是多么的艰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但是我会尽力完成的，相信我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                              —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邹弘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51560" y="1371600"/>
            <a:ext cx="499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爸，妈！其实我知道你们时常告戒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那是为了我好，初三的学习的确很辛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但是我一定会努力的。不是有句话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理想，经过与困难搏斗之后才诞生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请相信你们的女儿，我不会放弃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让你们担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永远爱你们的女儿，亚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65440" y="860400"/>
            <a:ext cx="5520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妈，我会加油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书山有路勤为径，学海无涯苦作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我一直牢记着您的教诲，它一直鞭策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我度过雨季，度过困难，度过我的人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                                  ——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雷欢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爸爸，我虽然现在成绩不理想，但我一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会考上洪家高中的，我相信只要付出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一定会有回报的。 我有个坏毛病，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爱看电视，常常回到家，第一件事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看电视，希望您能断绝让我看电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                        ——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林钦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9680" y="1066680"/>
            <a:ext cx="495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爸爸，妈妈，以前，我读书老是不怎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真，在那东游西逛，辜负了你们的一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苦心。你们赚钱是那么辛苦，为的就是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长大后有出息。我知道我以前做错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以后会尽我最大的努力，做到你们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希望的样子，不再辜负你们对我的期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原谅我以前的一切，我会做我能做到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的给你们看！请相信我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们的儿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友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77000" y="990720"/>
            <a:ext cx="449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爸妈，首先，我要感谢你们这么多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含辛茹苦的教育，这并不是一些同学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理所当然，也不是你们欠的债务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点，我一直都明白。我也承认，我一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都不是一个孝顺的女儿，从始至终我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未为你们做过什么，我没有达到你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目标，也没有尽自己所能去做，但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请不要对我丧失信心，因为，如果没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你们的支持和鼓励，我的动力又从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而来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  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王婷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27600" y="914400"/>
            <a:ext cx="4848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手拿着一支既轻又重的笔，思绪永远停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起点，这时许下每一个承诺都字字千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句句看似简单的寄语都变得不简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知道言而有信，但是是否做得到，在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紧张充满热情的初三，我许下在快乐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寻找烦恼，在烦恼中寻找快乐的愿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更明白，适当给自己压力，也许我做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并没有您期望的高，但我相信，您会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，了解我的，妈妈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怀着沉重心情的女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管莎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7880" y="990720"/>
            <a:ext cx="434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爸妈，我知道我的学习成绩不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但我会在这个学期尽我最大的努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考出令您满意的成绩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          ——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无名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187956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3760" y="2365200"/>
            <a:ext cx="310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学期期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考试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0760" y="34920"/>
            <a:ext cx="319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目前班级总分前十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90720"/>
            <a:ext cx="824400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一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余林丽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3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二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陈茂尧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3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三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余青青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9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四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余晓庆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9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五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余威特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8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31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六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余文煌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7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2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七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蔡昌灿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6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6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八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胡晓武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6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8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九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叶晨龙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6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53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第十名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: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林瑞庆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5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分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级段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54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544824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152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81080" y="22860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341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目前级段总分前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421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234936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27664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余林丽   第六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141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21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陈茂尧    第八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514600" y="5257800"/>
            <a:ext cx="20448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86400" y="23623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科班级前十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3049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科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51640" y="1557360"/>
            <a:ext cx="5255280" cy="3934440"/>
            <a:chOff x="2051640" y="1557360"/>
            <a:chExt cx="5255280" cy="3934440"/>
          </a:xfrm>
        </p:grpSpPr>
        <p:sp>
          <p:nvSpPr>
            <p:cNvPr id="83" name=""/>
            <p:cNvSpPr/>
            <p:nvPr/>
          </p:nvSpPr>
          <p:spPr>
            <a:xfrm>
              <a:off x="2051640" y="1557360"/>
              <a:ext cx="14608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１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陈茂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２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林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３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威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４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胡晓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５．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林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　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2080" y="1557360"/>
              <a:ext cx="17348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６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晓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７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青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８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余文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９．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叶晨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余娜</a:t>
              </a:r>
              <a:r>
                <a:rPr b="0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30492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数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89600" y="1474920"/>
            <a:ext cx="5622840" cy="3373560"/>
            <a:chOff x="1389600" y="1474920"/>
            <a:chExt cx="5622840" cy="3373560"/>
          </a:xfrm>
        </p:grpSpPr>
        <p:sp>
          <p:nvSpPr>
            <p:cNvPr id="88" name=""/>
            <p:cNvSpPr/>
            <p:nvPr/>
          </p:nvSpPr>
          <p:spPr>
            <a:xfrm>
              <a:off x="1389600" y="1523880"/>
              <a:ext cx="198468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１．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余林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余威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3  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余棉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4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余晓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5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陈茂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6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仿宋_GB2312"/>
                </a:rPr>
                <a:t>余青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15960" y="1474920"/>
              <a:ext cx="1896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7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段书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８．叶彩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９．余晓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36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．胡晓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2:32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01:16Z</dcterms:modified>
  <cp:revision>117</cp:revision>
  <dc:subject>主题班会课件(分28大类): http://shop62905894.taobao.com</dc:subject>
  <dc:title>主题班会课件(分28大类): http://shop62905894.taobao.com</dc:title>
</cp:coreProperties>
</file>